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4ED2-5C52-4988-8ED5-603469DB8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9529-1CB5-4CBC-B090-F7747537E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71BB-EFF3-4EF7-9E79-2313A3EDA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E194-7A9D-48C5-A59A-CC46D0850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CE6B-432A-4232-B5B7-5E90F3BCD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E27B-7E60-43EF-8691-3E8B66CC8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26B8-7307-4A9D-9533-CFB26FB02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9A7B-548F-469D-B3D1-A6762F58F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61A3-6584-4558-91C3-0A5CE223B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2BE0-1972-4978-8C93-615A05E4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FDED-9DF4-4856-9CDC-D2A53FB9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30E8-480F-4B41-A15D-A7053005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6838-537F-43A4-B63F-B7F64234277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800080"/>
                </a:solidFill>
                <a:latin typeface="Century Gothic"/>
              </a:rPr>
              <a:t>¿Qué es planific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6972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Proponerse objetivos y pensar 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camino para llegar a concretarl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Por lo tanto debe ser un traba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colectivo, participativo entre 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miembros de la organiz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OSC"/>
          <p:cNvPicPr/>
          <p:nvPr/>
        </p:nvPicPr>
        <p:blipFill>
          <a:blip r:embed="rId1"/>
          <a:stretch/>
        </p:blipFill>
        <p:spPr>
          <a:xfrm>
            <a:off x="5378400" y="4383000"/>
            <a:ext cx="3765600" cy="2475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95280" y="4869000"/>
            <a:ext cx="35272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Escuchars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comprenderse 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asesora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800080"/>
                </a:solidFill>
                <a:latin typeface="Century Gothic"/>
              </a:rPr>
              <a:t>Visión o Propósi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Cómo nos imaginamos el futuro. E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imagen del futuro tiene que ver 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Valores y sentimientos que comparti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los miembros de una Organ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OSC"/>
          <p:cNvPicPr/>
          <p:nvPr/>
        </p:nvPicPr>
        <p:blipFill>
          <a:blip r:embed="rId1"/>
          <a:stretch/>
        </p:blipFill>
        <p:spPr>
          <a:xfrm>
            <a:off x="5378400" y="4383000"/>
            <a:ext cx="376560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800080"/>
                </a:solidFill>
                <a:latin typeface="Century Gothic"/>
              </a:rPr>
              <a:t>VIS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Es un conjunto de ideas que ti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mucha fuerza, que convocan, 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reúnen, que dan sentido al hecho de pertenecer a una organ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OSC"/>
          <p:cNvPicPr/>
          <p:nvPr/>
        </p:nvPicPr>
        <p:blipFill>
          <a:blip r:embed="rId1"/>
          <a:stretch/>
        </p:blipFill>
        <p:spPr>
          <a:xfrm>
            <a:off x="5378400" y="4383000"/>
            <a:ext cx="376560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800080"/>
                </a:solidFill>
                <a:latin typeface="Century Gothic"/>
              </a:rPr>
              <a:t>IDENTID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Cómo nos vemos y cómo nos ven los demás, los vecinos, las otras organizaciones del barrio, las agrupaciones polític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OSC"/>
          <p:cNvPicPr/>
          <p:nvPr/>
        </p:nvPicPr>
        <p:blipFill>
          <a:blip r:embed="rId1"/>
          <a:stretch/>
        </p:blipFill>
        <p:spPr>
          <a:xfrm>
            <a:off x="5378400" y="4383000"/>
            <a:ext cx="376560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800080"/>
                </a:solidFill>
                <a:latin typeface="Century Gothic"/>
              </a:rPr>
              <a:t>La identidad- </a:t>
            </a:r>
            <a:r>
              <a:rPr b="0" i="1" lang="es-AR" sz="4000" spc="-1" strike="noStrike">
                <a:solidFill>
                  <a:srgbClr val="800080"/>
                </a:solidFill>
                <a:latin typeface="Century Gothic"/>
              </a:rPr>
              <a:t>preguntémon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22960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¿Quiénes som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¿A qué sector social pertenecem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¿Quiénes son los otros con los que 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convendría relacionarnos para cumpl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con nuestra Mis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OSC"/>
          <p:cNvPicPr/>
          <p:nvPr/>
        </p:nvPicPr>
        <p:blipFill>
          <a:blip r:embed="rId1"/>
          <a:stretch/>
        </p:blipFill>
        <p:spPr>
          <a:xfrm>
            <a:off x="5378400" y="4383000"/>
            <a:ext cx="3765600" cy="2475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79280" y="4292640"/>
            <a:ext cx="54007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¿Queremos relacionarnos con ell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¿Por qué </a:t>
            </a:r>
            <a:r>
              <a:rPr b="1" lang="es-AR" sz="3200" spc="-1" strike="noStrike">
                <a:solidFill>
                  <a:srgbClr val="000000"/>
                </a:solidFill>
                <a:latin typeface="Century Gothic"/>
              </a:rPr>
              <a:t>sí</a:t>
            </a: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, y por qué </a:t>
            </a:r>
            <a:r>
              <a:rPr b="1" lang="es-AR" sz="3200" spc="-1" strike="noStrike">
                <a:solidFill>
                  <a:srgbClr val="000000"/>
                </a:solidFill>
                <a:latin typeface="Century Gothic"/>
              </a:rPr>
              <a:t>no</a:t>
            </a: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800080"/>
                </a:solidFill>
                <a:latin typeface="Century Gothic"/>
              </a:rPr>
              <a:t>La identidad- </a:t>
            </a:r>
            <a:r>
              <a:rPr b="0" i="1" lang="es-AR" sz="4000" spc="-1" strike="noStrike">
                <a:solidFill>
                  <a:srgbClr val="800080"/>
                </a:solidFill>
                <a:latin typeface="Century Gothic"/>
              </a:rPr>
              <a:t>preguntémon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¿Son empresas, organismos público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organizaciones religiosas o son ot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organizaciones comunitarias c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nosotr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¿Qué nos diferencia de los otr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OSC"/>
          <p:cNvPicPr/>
          <p:nvPr/>
        </p:nvPicPr>
        <p:blipFill>
          <a:blip r:embed="rId1"/>
          <a:stretch/>
        </p:blipFill>
        <p:spPr>
          <a:xfrm>
            <a:off x="5378400" y="4383000"/>
            <a:ext cx="3765600" cy="2475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39640" y="4941720"/>
            <a:ext cx="47530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¿Cuáles son las características que nos hacen diferen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800080"/>
                </a:solidFill>
                <a:latin typeface="Century Gothic"/>
              </a:rPr>
              <a:t>La identidad- </a:t>
            </a:r>
            <a:r>
              <a:rPr b="0" i="1" lang="es-AR" sz="4000" spc="-1" strike="noStrike">
                <a:solidFill>
                  <a:srgbClr val="800080"/>
                </a:solidFill>
                <a:latin typeface="Century Gothic"/>
              </a:rPr>
              <a:t>preguntémon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¿Cómo creemos que nos ven las otras organizacio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¿Cómo vemos nosotros a las ot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organizacio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OSC"/>
          <p:cNvPicPr/>
          <p:nvPr/>
        </p:nvPicPr>
        <p:blipFill>
          <a:blip r:embed="rId1"/>
          <a:stretch/>
        </p:blipFill>
        <p:spPr>
          <a:xfrm>
            <a:off x="5378400" y="4383000"/>
            <a:ext cx="3765600" cy="2475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50920" y="4292640"/>
            <a:ext cx="504036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¿Cómo creerán esas otras organizaciones que nosotros las vemos a ell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Century Gothic"/>
              </a:rPr>
              <a:t>Los </a:t>
            </a:r>
            <a:r>
              <a:rPr b="1" lang="es-AR" sz="4000" spc="-1" strike="noStrike">
                <a:solidFill>
                  <a:srgbClr val="800080"/>
                </a:solidFill>
                <a:latin typeface="Century Gothic"/>
              </a:rPr>
              <a:t>OBJETIVOS ESTRATÉG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Marcan las grandes direcciones, las líneas o caminos que la organización se propone seguir. Hacía donde va la organiz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OSC"/>
          <p:cNvPicPr/>
          <p:nvPr/>
        </p:nvPicPr>
        <p:blipFill>
          <a:blip r:embed="rId1"/>
          <a:stretch/>
        </p:blipFill>
        <p:spPr>
          <a:xfrm>
            <a:off x="5378400" y="4383000"/>
            <a:ext cx="376560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Century Gothic"/>
              </a:rPr>
              <a:t>Los</a:t>
            </a:r>
            <a:r>
              <a:rPr b="0" lang="es-AR" sz="4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AR" sz="4000" spc="-1" strike="noStrike">
                <a:solidFill>
                  <a:srgbClr val="800080"/>
                </a:solidFill>
                <a:latin typeface="Century Gothic"/>
              </a:rPr>
              <a:t>OBJETIVOS ESTRATÉG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A dónde queremos llegar con nues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trabaj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¿Qué queremos conseguir con 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organizac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¿Cómo queremos que sea la organ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dentro de cin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o diez añ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OSC"/>
          <p:cNvPicPr/>
          <p:nvPr/>
        </p:nvPicPr>
        <p:blipFill>
          <a:blip r:embed="rId1"/>
          <a:stretch/>
        </p:blipFill>
        <p:spPr>
          <a:xfrm>
            <a:off x="5378400" y="4383000"/>
            <a:ext cx="376560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Century Gothic"/>
              </a:rPr>
              <a:t>Definiendo los </a:t>
            </a:r>
            <a:r>
              <a:rPr b="1" lang="es-AR" sz="4000" spc="-1" strike="noStrike">
                <a:solidFill>
                  <a:srgbClr val="800080"/>
                </a:solidFill>
                <a:latin typeface="Century Gothic"/>
              </a:rPr>
              <a:t>OBJETIVOS ESTRATÉG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Definimos los temas a los que nos dedicaremos, las acciones que tenemos que poner en marcha, cuándo, dónde y cóm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OSC"/>
          <p:cNvPicPr/>
          <p:nvPr/>
        </p:nvPicPr>
        <p:blipFill>
          <a:blip r:embed="rId1"/>
          <a:stretch/>
        </p:blipFill>
        <p:spPr>
          <a:xfrm>
            <a:off x="5378400" y="4383000"/>
            <a:ext cx="376560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800080"/>
                </a:solidFill>
                <a:latin typeface="Century Gothic"/>
              </a:rPr>
              <a:t>¿Qué hac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¿Qué problemas tenemos c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organización para conseguir lo 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querem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¿Qué tenemos?¿Qué sabemos?¿Qu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sabemos hac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¿Qué no tenemos, no sabemos o 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sabemos hac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Entonces, ¿en qué necesitamos ayud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800080"/>
                </a:solidFill>
                <a:latin typeface="Century Gothic"/>
              </a:rPr>
              <a:t>La planificación como acuer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Cuando planificamos acordam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Qué hacer, cuándo, quiénes, dónde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en cuánto tiemp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Por lo tanto deben participar todos 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involucrados en la t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OSC"/>
          <p:cNvPicPr/>
          <p:nvPr/>
        </p:nvPicPr>
        <p:blipFill>
          <a:blip r:embed="rId1"/>
          <a:stretch/>
        </p:blipFill>
        <p:spPr>
          <a:xfrm>
            <a:off x="5378400" y="4383000"/>
            <a:ext cx="376560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800080"/>
                </a:solidFill>
                <a:latin typeface="Century Gothic"/>
              </a:rPr>
              <a:t>FODA- Análisis situac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Conocer nuestras capacidades y fortalezas como puntos débiles es Estratégico para la organiz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800080"/>
                </a:solidFill>
                <a:latin typeface="Century Gothic"/>
              </a:rPr>
              <a:t>F</a:t>
            </a: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ortalezas / </a:t>
            </a:r>
            <a:r>
              <a:rPr b="1" lang="es-AR" sz="3200" spc="-1" strike="noStrike">
                <a:solidFill>
                  <a:srgbClr val="800080"/>
                </a:solidFill>
                <a:latin typeface="Century Gothic"/>
              </a:rPr>
              <a:t>D</a:t>
            </a: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ebilidades- INTE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800080"/>
                </a:solidFill>
                <a:latin typeface="Century Gothic"/>
              </a:rPr>
              <a:t>O</a:t>
            </a: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portunidades / </a:t>
            </a:r>
            <a:r>
              <a:rPr b="1" lang="es-AR" sz="3200" spc="-1" strike="noStrike">
                <a:solidFill>
                  <a:srgbClr val="800080"/>
                </a:solidFill>
                <a:latin typeface="Century Gothic"/>
              </a:rPr>
              <a:t>A</a:t>
            </a: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menazas - EXTE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800080"/>
                </a:solidFill>
                <a:latin typeface="Century Gothic"/>
              </a:rPr>
              <a:t>FODA -Organiz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800080"/>
                </a:solidFill>
                <a:latin typeface="Century Gothic"/>
              </a:rPr>
              <a:t>Fortalezas</a:t>
            </a: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 ¿Qué tengo? ¿Cuánto teng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800080"/>
                </a:solidFill>
                <a:latin typeface="Century Gothic"/>
              </a:rPr>
              <a:t>Debilidades</a:t>
            </a: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 ¿Qué me falta? ¿Qué me debili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3200" spc="-1" strike="noStrike">
                <a:solidFill>
                  <a:srgbClr val="000000"/>
                </a:solidFill>
                <a:latin typeface="Century Gothic"/>
              </a:rPr>
              <a:t>Destrezas, habilidades, equipo, organización, sistema, convocatoria, prestigio, poder, recurso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800080"/>
                </a:solidFill>
                <a:latin typeface="Century Gothic"/>
              </a:rPr>
              <a:t>FODA- Entor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800080"/>
                </a:solidFill>
                <a:latin typeface="Century Gothic"/>
              </a:rPr>
              <a:t>Oportunidades</a:t>
            </a: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 ¿Qué favorece mi acc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800080"/>
                </a:solidFill>
                <a:latin typeface="Century Gothic"/>
              </a:rPr>
              <a:t>Amenazas</a:t>
            </a:r>
            <a:r>
              <a:rPr b="1" lang="es-AR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¿Qué obstruye mi acc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3200" spc="-1" strike="noStrike">
                <a:solidFill>
                  <a:srgbClr val="000000"/>
                </a:solidFill>
                <a:latin typeface="Century Gothic"/>
              </a:rPr>
              <a:t>Factores, actores combinados, entorno me favorece u obstaculiza, posibles fuerzas sociales que ayudan o 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800080"/>
                </a:solidFill>
                <a:latin typeface="Century Gothic"/>
              </a:rPr>
              <a:t>Priorizar los problem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entury Gothic"/>
              </a:rPr>
              <a:t>Definir los problemas que tenemos en for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entury Gothic"/>
              </a:rPr>
              <a:t>participativa y luego priorizar. En bas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entury Gothic"/>
              </a:rPr>
              <a:t>nuestras posibilidades encarar 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entury Gothic"/>
              </a:rPr>
              <a:t>problemas prioritarios en los que tene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entury Gothic"/>
              </a:rPr>
              <a:t>mayores oportunidades de solucionar, 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entury Gothic"/>
              </a:rPr>
              <a:t>este mom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OSC"/>
          <p:cNvPicPr/>
          <p:nvPr/>
        </p:nvPicPr>
        <p:blipFill>
          <a:blip r:embed="rId1"/>
          <a:stretch/>
        </p:blipFill>
        <p:spPr>
          <a:xfrm>
            <a:off x="5378400" y="4383000"/>
            <a:ext cx="376560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800080"/>
                </a:solidFill>
                <a:latin typeface="Century Gothic"/>
              </a:rPr>
              <a:t>Estratég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Enfrentar los problemas que pue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resolver de la mejor manera en 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situación que tiene la organización 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este mom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Luego cuando se va fortaleciendo 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organización tomar l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problemas may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OSC"/>
          <p:cNvPicPr/>
          <p:nvPr/>
        </p:nvPicPr>
        <p:blipFill>
          <a:blip r:embed="rId1"/>
          <a:stretch/>
        </p:blipFill>
        <p:spPr>
          <a:xfrm>
            <a:off x="5378400" y="4383000"/>
            <a:ext cx="376560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800080"/>
                </a:solidFill>
                <a:latin typeface="Century Gothic"/>
              </a:rPr>
              <a:t>Estratég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Fortalecer los recursos humanos 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 u="sng">
                <a:solidFill>
                  <a:srgbClr val="000000"/>
                </a:solidFill>
                <a:uFillTx/>
                <a:latin typeface="Century Gothic"/>
              </a:rPr>
              <a:t>Cantidad:</a:t>
            </a: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 reclutamiento de volunt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 u="sng">
                <a:solidFill>
                  <a:srgbClr val="000000"/>
                </a:solidFill>
                <a:uFillTx/>
                <a:latin typeface="Century Gothic"/>
              </a:rPr>
              <a:t>Calidad</a:t>
            </a: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: unir al grupo con actividades que permitan el conocimiento, el reconocimiento y motiven el interés de pertenecer a 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organ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OSC"/>
          <p:cNvPicPr/>
          <p:nvPr/>
        </p:nvPicPr>
        <p:blipFill>
          <a:blip r:embed="rId1"/>
          <a:stretch/>
        </p:blipFill>
        <p:spPr>
          <a:xfrm>
            <a:off x="5378400" y="4383000"/>
            <a:ext cx="376560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800080"/>
                </a:solidFill>
                <a:latin typeface="Century Gothic"/>
              </a:rPr>
              <a:t>Definida la tar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 u="sng">
                <a:solidFill>
                  <a:srgbClr val="000000"/>
                </a:solidFill>
                <a:uFillTx/>
                <a:latin typeface="Century Gothic"/>
              </a:rPr>
              <a:t>Planificamos la tarea:</a:t>
            </a:r>
            <a:r>
              <a:rPr b="0" lang="es-AR" sz="2800" spc="-1" strike="noStrike">
                <a:solidFill>
                  <a:srgbClr val="000000"/>
                </a:solidFill>
                <a:latin typeface="Century Gothic"/>
              </a:rPr>
              <a:t> elaboramos el cam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entury Gothic"/>
              </a:rPr>
              <a:t>para realizarl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entury Gothic"/>
              </a:rPr>
              <a:t>Lo escribimos en un cuaderno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entury Gothic"/>
              </a:rPr>
              <a:t>Planificaci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entury Gothic"/>
              </a:rPr>
              <a:t>Proponemos un esquema de reuniones pa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entury Gothic"/>
              </a:rPr>
              <a:t>evaluar el desarrollo del plan y una 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entury Gothic"/>
              </a:rPr>
              <a:t>finaliz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800080"/>
                </a:solidFill>
                <a:latin typeface="Century Gothic"/>
              </a:rPr>
              <a:t>Este es el insumo para mejorar la organización interna y exte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800080"/>
                </a:solidFill>
                <a:latin typeface="Century Gothic"/>
              </a:rPr>
              <a:t>EVALU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No es solo controlar, es un camino 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reconocimiento de la manera en 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pensamos las actividades, calcula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los tiempos y acordamos los roles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funcion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De esa manera se pueden hacer ajus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lo que permite que </a:t>
            </a:r>
            <a:r>
              <a:rPr b="1" lang="es-AR" sz="3200" spc="-1" strike="noStrike">
                <a:solidFill>
                  <a:srgbClr val="800080"/>
                </a:solidFill>
                <a:latin typeface="Century Gothic"/>
              </a:rPr>
              <a:t>MEJOREMOS</a:t>
            </a: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 lo 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hacem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800080"/>
                </a:solidFill>
                <a:latin typeface="Century Gothic"/>
              </a:rPr>
              <a:t>Evaluando se apren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Y se puede reformular las formas de trabajo. Podemos ser más eficientes:</a:t>
            </a:r>
            <a:r>
              <a:rPr b="1" lang="es-AR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800080"/>
                </a:solidFill>
                <a:latin typeface="Century Gothic"/>
              </a:rPr>
              <a:t>LOGRAR NUESTROS OBJETIVOS AL MENOR COSTO PO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OSC"/>
          <p:cNvPicPr/>
          <p:nvPr/>
        </p:nvPicPr>
        <p:blipFill>
          <a:blip r:embed="rId1"/>
          <a:stretch/>
        </p:blipFill>
        <p:spPr>
          <a:xfrm>
            <a:off x="5378400" y="4383000"/>
            <a:ext cx="376560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800080"/>
                </a:solidFill>
                <a:latin typeface="Century Gothic"/>
              </a:rPr>
              <a:t>Tipos de planifica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800080"/>
                </a:solidFill>
                <a:latin typeface="Century Gothic"/>
              </a:rPr>
              <a:t>PLAN</a:t>
            </a:r>
            <a:r>
              <a:rPr b="0" lang="es-AR" sz="3200" spc="-1" strike="noStrike">
                <a:solidFill>
                  <a:srgbClr val="800080"/>
                </a:solidFill>
                <a:latin typeface="Century Gothic"/>
              </a:rPr>
              <a:t>  </a:t>
            </a: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800080"/>
                </a:solidFill>
                <a:latin typeface="Century Gothic"/>
              </a:rPr>
              <a:t>PROGRAMAS</a:t>
            </a:r>
            <a:r>
              <a:rPr b="1" lang="es-AR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800080"/>
                </a:solidFill>
                <a:latin typeface="Century Gothic"/>
              </a:rPr>
              <a:t>PROYECTOS</a:t>
            </a: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AR" sz="3200" spc="-1" strike="noStrike">
                <a:solidFill>
                  <a:srgbClr val="800080"/>
                </a:solidFill>
                <a:latin typeface="Century Gothic"/>
              </a:rPr>
              <a:t>ACTIV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OSC"/>
          <p:cNvPicPr/>
          <p:nvPr/>
        </p:nvPicPr>
        <p:blipFill>
          <a:blip r:embed="rId1"/>
          <a:stretch/>
        </p:blipFill>
        <p:spPr>
          <a:xfrm>
            <a:off x="5378400" y="4383000"/>
            <a:ext cx="376560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800080"/>
                </a:solidFill>
                <a:latin typeface="Century Gothic"/>
              </a:rPr>
              <a:t>IMPORTA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Definir quiénes se hacen cargo de qu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y por qu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Prever el tiempo necesario para realiz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cada t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OSC"/>
          <p:cNvPicPr/>
          <p:nvPr/>
        </p:nvPicPr>
        <p:blipFill>
          <a:blip r:embed="rId1"/>
          <a:stretch/>
        </p:blipFill>
        <p:spPr>
          <a:xfrm>
            <a:off x="5378400" y="4383000"/>
            <a:ext cx="3765600" cy="2475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68360" y="4581360"/>
            <a:ext cx="42480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Todo cambio debe hacerse con 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consen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800080"/>
                </a:solidFill>
                <a:latin typeface="Century Gothic"/>
              </a:rPr>
              <a:t>La viabilid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Para concretar la planificación se deben construir las viabilida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Económ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Polí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OSC"/>
          <p:cNvPicPr/>
          <p:nvPr/>
        </p:nvPicPr>
        <p:blipFill>
          <a:blip r:embed="rId1"/>
          <a:stretch/>
        </p:blipFill>
        <p:spPr>
          <a:xfrm>
            <a:off x="5378400" y="4383000"/>
            <a:ext cx="376560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800080"/>
                </a:solidFill>
                <a:latin typeface="Century Gothic"/>
              </a:rPr>
              <a:t>Mapa de actores involucra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68360" y="1484280"/>
          <a:ext cx="8229600" cy="45259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Grup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Intere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roblemas Percibi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Recursos y Manda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Conflictos Potenci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80"/>
                    </a:solidFill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800080"/>
                </a:solidFill>
                <a:latin typeface="Century Gothic"/>
              </a:rPr>
              <a:t>Momento estraté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s aquel en el cual se pregun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¿Cómo puedo construirle viabilidad a mi proyecto/planific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¿Qué obstáculos debo vencer y cómo los puedo venc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Los obstáculos pueden ser políticos, económicos, organizativos, cognoscitivos, legal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800080"/>
                </a:solidFill>
                <a:latin typeface="Century Gothic"/>
              </a:rPr>
              <a:t>La gest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El manejo de la planificación como herramienta técnica y política por parte de la organización, refleja el tipo de gestión que desarrolla, ha construido y logrado con los recursos que cuen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800080"/>
                </a:solidFill>
                <a:latin typeface="Century Gothic"/>
              </a:rPr>
              <a:t>La organización en acción perman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171160" y="1920960"/>
            <a:ext cx="4728600" cy="4095360"/>
            <a:chOff x="2171160" y="1920960"/>
            <a:chExt cx="4728600" cy="4095360"/>
          </a:xfrm>
        </p:grpSpPr>
        <p:sp>
          <p:nvSpPr>
            <p:cNvPr id="136" name="_s39950"/>
            <p:cNvSpPr/>
            <p:nvPr/>
          </p:nvSpPr>
          <p:spPr>
            <a:xfrm>
              <a:off x="3092400" y="1920960"/>
              <a:ext cx="2886120" cy="2884320"/>
            </a:xfrm>
            <a:custGeom>
              <a:avLst/>
              <a:gdLst>
                <a:gd name="textAreaLeft" fmla="*/ 0 w 2886120"/>
                <a:gd name="textAreaRight" fmla="*/ 2886480 w 2886120"/>
                <a:gd name="textAreaTop" fmla="*/ 0 h 2884320"/>
                <a:gd name="textAreaBottom" fmla="*/ 2884680 h 288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39951"/>
            <p:cNvSpPr/>
            <p:nvPr/>
          </p:nvSpPr>
          <p:spPr>
            <a:xfrm rot="7200000">
              <a:off x="3486600" y="2602440"/>
              <a:ext cx="2884320" cy="2886120"/>
            </a:xfrm>
            <a:custGeom>
              <a:avLst/>
              <a:gdLst>
                <a:gd name="textAreaLeft" fmla="*/ 0 w 2884320"/>
                <a:gd name="textAreaRight" fmla="*/ 2884680 w 2884320"/>
                <a:gd name="textAreaTop" fmla="*/ 0 h 2886120"/>
                <a:gd name="textAreaBottom" fmla="*/ 2886480 h 288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39953"/>
            <p:cNvSpPr/>
            <p:nvPr/>
          </p:nvSpPr>
          <p:spPr>
            <a:xfrm rot="14400000">
              <a:off x="2699640" y="2602440"/>
              <a:ext cx="2884320" cy="2885760"/>
            </a:xfrm>
            <a:custGeom>
              <a:avLst/>
              <a:gdLst>
                <a:gd name="textAreaLeft" fmla="*/ 0 w 2884320"/>
                <a:gd name="textAreaRight" fmla="*/ 2884680 w 2884320"/>
                <a:gd name="textAreaTop" fmla="*/ 0 h 2885760"/>
                <a:gd name="textAreaBottom" fmla="*/ 2885760 h 28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39948"/>
            <p:cNvSpPr/>
            <p:nvPr/>
          </p:nvSpPr>
          <p:spPr>
            <a:xfrm>
              <a:off x="5326200" y="2448000"/>
              <a:ext cx="1157040" cy="11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400" spc="-1" strike="noStrike">
                  <a:solidFill>
                    <a:srgbClr val="000000"/>
                  </a:solidFill>
                  <a:latin typeface="Century Gothic"/>
                </a:rPr>
                <a:t>RESULTAD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39949"/>
            <p:cNvSpPr/>
            <p:nvPr/>
          </p:nvSpPr>
          <p:spPr>
            <a:xfrm>
              <a:off x="3959280" y="4821120"/>
              <a:ext cx="115740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400" spc="-1" strike="noStrike">
                  <a:solidFill>
                    <a:srgbClr val="000000"/>
                  </a:solidFill>
                  <a:latin typeface="Century Gothic"/>
                </a:rPr>
                <a:t>OBJET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39952"/>
            <p:cNvSpPr/>
            <p:nvPr/>
          </p:nvSpPr>
          <p:spPr>
            <a:xfrm>
              <a:off x="2585880" y="2449440"/>
              <a:ext cx="115740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400" spc="-1" strike="noStrike">
                  <a:solidFill>
                    <a:srgbClr val="000000"/>
                  </a:solidFill>
                  <a:latin typeface="Century Gothic"/>
                </a:rPr>
                <a:t>METODOLOGÍ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400" spc="-1" strike="noStrike">
                  <a:solidFill>
                    <a:srgbClr val="000000"/>
                  </a:solidFill>
                  <a:latin typeface="Century Gothic"/>
                </a:rPr>
                <a:t>FACTORES EXTERN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800080"/>
                </a:solidFill>
                <a:latin typeface="Century Gothic"/>
              </a:rPr>
              <a:t>La planificación estratég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Century Gothic"/>
              </a:rPr>
              <a:t>Es un camino, un método para planear las acciones, para resolver los problemas y lograr los objetivos que queremos consegui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OSC"/>
          <p:cNvPicPr/>
          <p:nvPr/>
        </p:nvPicPr>
        <p:blipFill>
          <a:blip r:embed="rId1"/>
          <a:stretch/>
        </p:blipFill>
        <p:spPr>
          <a:xfrm>
            <a:off x="5378400" y="4383000"/>
            <a:ext cx="376560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800080"/>
                </a:solidFill>
                <a:latin typeface="Century Gothic"/>
              </a:rPr>
              <a:t>Hay que tener en cuen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entury Gothic"/>
              </a:rPr>
              <a:t>1- Los factores internos de la organiz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entury Gothic"/>
              </a:rPr>
              <a:t>2- Permite comprender a la organización como un to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entury Gothic"/>
              </a:rPr>
              <a:t>3- Nos permite pensar en un futuro posi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entury Gothic"/>
              </a:rPr>
              <a:t>4- Nos hace superar los problemas particula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entury Gothic"/>
              </a:rPr>
              <a:t>5- La planificación debe ser flexible atento a los cambios internos y externos que suced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800080"/>
                </a:solidFill>
                <a:latin typeface="Century Gothic"/>
              </a:rPr>
              <a:t>Hay que tener en cuen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6- No hay un único plan posible, to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pueden opinar, pensar y propo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7- La participación de todos hace 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se sientan motivados e interesad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Por eso todos deben ser respons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de alguna activ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OSC"/>
          <p:cNvPicPr/>
          <p:nvPr/>
        </p:nvPicPr>
        <p:blipFill>
          <a:blip r:embed="rId1"/>
          <a:stretch/>
        </p:blipFill>
        <p:spPr>
          <a:xfrm>
            <a:off x="5378400" y="4383000"/>
            <a:ext cx="376560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800080"/>
                </a:solidFill>
                <a:latin typeface="Century Gothic"/>
              </a:rPr>
              <a:t>La particip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entury Gothic"/>
              </a:rPr>
              <a:t>Una vez aprobado la planificación se de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entury Gothic"/>
              </a:rPr>
              <a:t>dar una copia a todos los que participa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entury Gothic"/>
              </a:rPr>
              <a:t>para que estén informados de las t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entury Gothic"/>
              </a:rPr>
              <a:t>que hay que realizar, en qué tiempo y p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entury Gothic"/>
              </a:rPr>
              <a:t>qu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entury Gothic"/>
              </a:rPr>
              <a:t>Esto ayuda a que siempre se pueda apor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entury Gothic"/>
              </a:rPr>
              <a:t>soluciones, ideas y propuestas para facili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entury Gothic"/>
              </a:rPr>
              <a:t>y/o asegurar las tare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800080"/>
                </a:solidFill>
                <a:latin typeface="Century Gothic"/>
              </a:rPr>
              <a:t>A conocer o defin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La organización tiene que tener definid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Su MISIÓN que es su razón de ser, 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razones más importantes por las que 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organiz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OSC"/>
          <p:cNvPicPr/>
          <p:nvPr/>
        </p:nvPicPr>
        <p:blipFill>
          <a:blip r:embed="rId1"/>
          <a:stretch/>
        </p:blipFill>
        <p:spPr>
          <a:xfrm>
            <a:off x="5378400" y="4383000"/>
            <a:ext cx="376560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800080"/>
                </a:solidFill>
                <a:latin typeface="Century Gothic"/>
              </a:rPr>
              <a:t>Definir la MI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Hay que tener clar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1- La</a:t>
            </a:r>
            <a:r>
              <a:rPr b="1" lang="es-AR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AR" sz="3200" spc="-1" strike="noStrike">
                <a:solidFill>
                  <a:srgbClr val="800080"/>
                </a:solidFill>
                <a:latin typeface="Century Gothic"/>
              </a:rPr>
              <a:t>VI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2- La </a:t>
            </a:r>
            <a:r>
              <a:rPr b="1" lang="es-AR" sz="3200" spc="-1" strike="noStrike">
                <a:solidFill>
                  <a:srgbClr val="800080"/>
                </a:solidFill>
                <a:latin typeface="Century Gothic"/>
              </a:rPr>
              <a:t>IDENT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3- Los </a:t>
            </a:r>
            <a:r>
              <a:rPr b="1" lang="es-AR" sz="3200" spc="-1" strike="noStrike">
                <a:solidFill>
                  <a:srgbClr val="800080"/>
                </a:solidFill>
                <a:latin typeface="Century Gothic"/>
              </a:rPr>
              <a:t>OBJETIVOS ESTRATÉG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OSC"/>
          <p:cNvPicPr/>
          <p:nvPr/>
        </p:nvPicPr>
        <p:blipFill>
          <a:blip r:embed="rId1"/>
          <a:stretch/>
        </p:blipFill>
        <p:spPr>
          <a:xfrm>
            <a:off x="5378400" y="4383000"/>
            <a:ext cx="376560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14:40:51Z</dcterms:created>
  <dc:creator>WinuE</dc:creator>
  <dc:description/>
  <dc:language>en-US</dc:language>
  <cp:lastModifiedBy>crezk</cp:lastModifiedBy>
  <dcterms:modified xsi:type="dcterms:W3CDTF">2011-04-29T13:03:23Z</dcterms:modified>
  <cp:revision>7</cp:revision>
  <dc:subject/>
  <dc:title>Módulo PLANIFICACIÓN</dc:title>
</cp:coreProperties>
</file>